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gif" ContentType="image/gif"/>
  <Override PartName="/ppt/media/image8.png" ContentType="image/png"/>
  <Override PartName="/ppt/media/image14.jpeg" ContentType="image/jpeg"/>
  <Override PartName="/ppt/media/image7.jpeg" ContentType="image/jpeg"/>
  <Override PartName="/ppt/media/image11.gif" ContentType="image/gif"/>
  <Override PartName="/ppt/media/image6.gif" ContentType="image/gif"/>
  <Override PartName="/ppt/media/image5.jpeg" ContentType="image/jpeg"/>
  <Override PartName="/ppt/media/image13.jpeg" ContentType="image/jpeg"/>
  <Override PartName="/ppt/media/image23.gif" ContentType="image/gif"/>
  <Override PartName="/ppt/media/image15.png" ContentType="image/png"/>
  <Override PartName="/ppt/media/image21.png" ContentType="image/png"/>
  <Override PartName="/ppt/media/image3.wmf" ContentType="image/x-wmf"/>
  <Override PartName="/ppt/media/image4.png" ContentType="image/png"/>
  <Override PartName="/ppt/media/image19.jpeg" ContentType="image/jpeg"/>
  <Override PartName="/ppt/media/image18.jpeg" ContentType="image/jpeg"/>
  <Override PartName="/ppt/media/image17.gif" ContentType="image/gif"/>
  <Override PartName="/ppt/media/image16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2640" y="667800"/>
            <a:ext cx="456084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EA1B3-862B-4343-BC99-C0A0813C68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93B08-7561-4BA9-8842-B08B009755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B3908-B061-425F-A06E-8803C98895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5AF7F-1D35-4D4C-9931-97B176B176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785686-7228-448D-9BDE-A07FDE6416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CBD2F-84EC-4ED6-A7B4-36B39F58F2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28B8B-4470-4700-86A4-EC6CE8E55C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069C03-A983-46FE-9F36-84F0C40188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E17AE-3C6F-41BB-9BF9-29DFC69C62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A750F-E3F5-44C2-A941-C64267A0D7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0266D-EE15-470B-BE57-C810FCF5822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3E6E1-BE60-43FE-A64A-84895BC78F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C04D6-9F41-4C81-B019-78F531E320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F882B-967F-4B8E-A259-E12832D2AF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A8D8C-05A7-4B1D-B9F3-032B77F4C3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82F86-4FC9-4477-881E-A207D28319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C8965-830C-4095-9054-C53C02EB0B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1BBED-F77F-4EAC-A3A0-7BCCF7466E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177BA-DDC1-4BF0-A94A-820B65401B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A5A84-333B-4A86-BEBD-FE6C869F5C7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7D9E4-84B2-40CF-B07C-C50646D593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3"/>
          <p:cNvSpPr/>
          <p:nvPr/>
        </p:nvSpPr>
        <p:spPr>
          <a:xfrm>
            <a:off x="3884760" y="8685360"/>
            <a:ext cx="2960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E8516-9E51-4F83-9007-583B540E1F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2F25E-1B7C-40FA-B2D1-5EF604A56B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E3F-DF04-40D0-9E0C-A6BD6DA7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B368-483D-4DC0-9AC4-EEB1065B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FBE6-7108-4A9F-B18E-8A9372E1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720-003A-432E-8784-16FC7115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B63F-D055-41DD-B493-51F9DD28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9A65-06FD-4947-B1F8-46527EE9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B8C4-F694-4278-9D2D-DF696FC6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7112-4EDB-4567-97A0-AE665785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BDAA-889C-4518-97CC-969EB2A9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FF38-1D42-4004-93A7-CFCE5FAC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F5AE-3694-4BB1-BADA-567B9378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292E-A2DF-47A2-AD81-35DF332C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A18D-597E-45E6-889E-A4603747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BBA1-12D7-435F-BAC7-526BC33F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DD2E-854D-4606-93B6-BB1D21F3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4BA8-5F02-412C-B712-22B41566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12E5-5E67-4EFA-904E-F5E14876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6931-B8CD-4F4B-BD29-7DAE29EC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2724-7BB7-4DF7-9B33-AB4D55D6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48E3-0BCA-41CD-8572-50A82F8A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A18-892A-4C45-BDBD-C557F8BB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0920-718B-482C-BC77-D903B62D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855-59C2-41F3-839E-89745C55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79B-49F3-4F86-800C-272AFDC8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bcbcbc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D02D35-F438-440D-A716-0F4AAC5D72E8}" type="slidenum">
              <a:rPr b="1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US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bcbcbc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7D5507-D094-4FF3-8787-B279C949B90D}" type="slidenum">
              <a:rPr b="1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gif"/><Relationship Id="rId3" Type="http://schemas.openxmlformats.org/officeDocument/2006/relationships/slide" Target="slide3.xml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4" descr=""/>
          <p:cNvPicPr/>
          <p:nvPr/>
        </p:nvPicPr>
        <p:blipFill>
          <a:blip r:embed="rId1"/>
          <a:stretch/>
        </p:blipFill>
        <p:spPr>
          <a:xfrm>
            <a:off x="60480" y="139680"/>
            <a:ext cx="9802800" cy="4316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E01644_"/>
          <p:cNvPicPr/>
          <p:nvPr/>
        </p:nvPicPr>
        <p:blipFill>
          <a:blip r:embed="rId2"/>
          <a:stretch/>
        </p:blipFill>
        <p:spPr>
          <a:xfrm>
            <a:off x="4932360" y="3429000"/>
            <a:ext cx="3890880" cy="3122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489960" y="3444840"/>
            <a:ext cx="45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Comic Sans MS"/>
              </a:rPr>
              <a:t>Внеклассное мероприятие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Comic Sans MS"/>
              </a:rPr>
              <a:t>для начальных класс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479736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Выполнила: Фазлиева Гульнара Музиповна,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учитель начальных классо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МБОУ «СОШ № 3 г Мамадыш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f3fa"/>
            </a:gs>
            <a:gs pos="50000">
              <a:srgbClr val="f8b9b2"/>
            </a:gs>
            <a:gs pos="100000">
              <a:srgbClr val="9ef3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57360" y="428760"/>
            <a:ext cx="6351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1476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Гульнара Музиповна\Desktop\коррупция рисунки\коррупция7.jpg"/>
          <p:cNvPicPr/>
          <p:nvPr/>
        </p:nvPicPr>
        <p:blipFill>
          <a:blip r:embed="rId2"/>
          <a:stretch/>
        </p:blipFill>
        <p:spPr>
          <a:xfrm>
            <a:off x="971640" y="587520"/>
            <a:ext cx="7488000" cy="586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457200" y="19810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30f01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165640" y="955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" name="Picture 9" descr=""/>
          <p:cNvPicPr/>
          <p:nvPr/>
        </p:nvPicPr>
        <p:blipFill>
          <a:blip r:embed="rId1"/>
          <a:stretch/>
        </p:blipFill>
        <p:spPr>
          <a:xfrm>
            <a:off x="1332000" y="6165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:\Users\Гульнара Музиповна\Desktop\коррупция рисунки\кор0.gif"/>
          <p:cNvPicPr/>
          <p:nvPr/>
        </p:nvPicPr>
        <p:blipFill>
          <a:blip r:embed="rId2"/>
          <a:stretch/>
        </p:blipFill>
        <p:spPr>
          <a:xfrm>
            <a:off x="684360" y="620640"/>
            <a:ext cx="7991280" cy="5329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d66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7129440" cy="293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:\Users\Гульнара Музиповна\Desktop\коррупция рисунки\кор9.jpg"/>
          <p:cNvPicPr/>
          <p:nvPr/>
        </p:nvPicPr>
        <p:blipFill>
          <a:blip r:embed="rId2"/>
          <a:stretch/>
        </p:blipFill>
        <p:spPr>
          <a:xfrm>
            <a:off x="900000" y="1484280"/>
            <a:ext cx="7344000" cy="457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11280" y="204840"/>
            <a:ext cx="792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Коррупция - это противозаконно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5ffd5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2125800" cy="1239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1908000" y="1844640"/>
            <a:ext cx="603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тоб не было несчастья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Запомните, друзья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Что коррупция и взятк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Это плохо, «стоп», нельзя 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4" descr="C:\Users\Гульнара Музиповна\Desktop\коррупция рисунки\кор 9.jpg"/>
          <p:cNvPicPr/>
          <p:nvPr/>
        </p:nvPicPr>
        <p:blipFill>
          <a:blip r:embed="rId2"/>
          <a:stretch/>
        </p:blipFill>
        <p:spPr>
          <a:xfrm>
            <a:off x="2124000" y="1619280"/>
            <a:ext cx="554364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685800" y="150840"/>
            <a:ext cx="687060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3300"/>
                </a:solidFill>
                <a:uFillTx/>
                <a:latin typeface="Comic Sans MS"/>
              </a:rPr>
              <a:t>Доктор Айболит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39640" y="185904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7010280" y="152280"/>
            <a:ext cx="1866960" cy="1543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C:\Users\Гульнара Музиповна\Desktop\коррупция рисунки\доктор айболит.jpg"/>
          <p:cNvPicPr/>
          <p:nvPr/>
        </p:nvPicPr>
        <p:blipFill>
          <a:blip r:embed="rId2"/>
          <a:stretch/>
        </p:blipFill>
        <p:spPr>
          <a:xfrm>
            <a:off x="1692360" y="982800"/>
            <a:ext cx="4784760" cy="5287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936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676520" y="289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143000" y="155520"/>
            <a:ext cx="66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cc3300"/>
                </a:solidFill>
                <a:latin typeface="Comic Sans MS"/>
              </a:rPr>
              <a:t>  </a:t>
            </a:r>
            <a:r>
              <a:rPr b="0" i="1" lang="ru-RU" sz="3200" spc="-1" strike="noStrike">
                <a:solidFill>
                  <a:srgbClr val="cc3300"/>
                </a:solidFill>
                <a:latin typeface="Comic Sans MS"/>
              </a:rPr>
              <a:t>Коррупция - взятка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Picture 16" descr="C:\Users\Гульнара Музиповна\Desktop\коррупция рисунки\коррупция6.jpg"/>
          <p:cNvPicPr/>
          <p:nvPr/>
        </p:nvPicPr>
        <p:blipFill>
          <a:blip r:embed="rId2"/>
          <a:stretch/>
        </p:blipFill>
        <p:spPr>
          <a:xfrm>
            <a:off x="3057480" y="1341360"/>
            <a:ext cx="3286080" cy="4934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6877080" y="3716280"/>
            <a:ext cx="1322280" cy="954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620640"/>
            <a:ext cx="596880" cy="596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"/>
          <p:cNvPicPr/>
          <p:nvPr/>
        </p:nvPicPr>
        <p:blipFill>
          <a:blip r:embed="rId5"/>
          <a:stretch/>
        </p:blipFill>
        <p:spPr>
          <a:xfrm>
            <a:off x="32400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Users\Гульнара Музиповна\Desktop\коррупция рисунки\теремок.jpg"/>
          <p:cNvPicPr/>
          <p:nvPr/>
        </p:nvPicPr>
        <p:blipFill>
          <a:blip r:embed="rId6"/>
          <a:stretch/>
        </p:blipFill>
        <p:spPr>
          <a:xfrm>
            <a:off x="299880" y="620640"/>
            <a:ext cx="8448840" cy="57610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914400" y="189000"/>
            <a:ext cx="57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C:\Users\Гульнара Музиповна\Desktop\коррупция рисунки\теремок1.jpg"/>
          <p:cNvPicPr/>
          <p:nvPr/>
        </p:nvPicPr>
        <p:blipFill>
          <a:blip r:embed="rId3"/>
          <a:stretch/>
        </p:blipFill>
        <p:spPr>
          <a:xfrm>
            <a:off x="476280" y="252360"/>
            <a:ext cx="5334120" cy="3933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C:\Users\Гульнара Музиповна\Desktop\коррупция рисунки\лягушка.png"/>
          <p:cNvPicPr/>
          <p:nvPr/>
        </p:nvPicPr>
        <p:blipFill>
          <a:blip r:embed="rId4"/>
          <a:stretch/>
        </p:blipFill>
        <p:spPr>
          <a:xfrm>
            <a:off x="5783400" y="3933720"/>
            <a:ext cx="1969920" cy="29242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7" descr="C:\Users\Гульнара Музиповна\Desktop\коррупция рисунки\теремок2.png"/>
          <p:cNvPicPr/>
          <p:nvPr/>
        </p:nvPicPr>
        <p:blipFill>
          <a:blip r:embed="rId2"/>
          <a:stretch/>
        </p:blipFill>
        <p:spPr>
          <a:xfrm>
            <a:off x="1943280" y="254160"/>
            <a:ext cx="5257800" cy="6349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404640" y="25416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едведь - рэкитё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830520" y="5032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Comic Sans MS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2" name="Picture 8" descr=""/>
          <p:cNvPicPr/>
          <p:nvPr/>
        </p:nvPicPr>
        <p:blipFill>
          <a:blip r:embed="rId1"/>
          <a:stretch/>
        </p:blipFill>
        <p:spPr>
          <a:xfrm>
            <a:off x="1476360" y="6021360"/>
            <a:ext cx="712944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"/>
          <p:cNvPicPr/>
          <p:nvPr/>
        </p:nvPicPr>
        <p:blipFill>
          <a:blip r:embed="rId2"/>
          <a:stretch/>
        </p:blipFill>
        <p:spPr>
          <a:xfrm>
            <a:off x="324000" y="522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C:\Users\Гульнара Музиповна\Desktop\коррупция рисунки\емеля 3.jpg"/>
          <p:cNvPicPr/>
          <p:nvPr/>
        </p:nvPicPr>
        <p:blipFill>
          <a:blip r:embed="rId3"/>
          <a:stretch/>
        </p:blipFill>
        <p:spPr>
          <a:xfrm>
            <a:off x="1573200" y="824040"/>
            <a:ext cx="6045120" cy="604512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"/>
          <p:cNvSpPr/>
          <p:nvPr/>
        </p:nvSpPr>
        <p:spPr>
          <a:xfrm>
            <a:off x="1692360" y="1760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«По щучьему веленью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6a3"/>
            </a:gs>
            <a:gs pos="100000">
              <a:srgbClr val="d7f8fd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6"/>
          <p:cNvSpPr/>
          <p:nvPr/>
        </p:nvSpPr>
        <p:spPr>
          <a:xfrm>
            <a:off x="1619280" y="2997360"/>
            <a:ext cx="1152360" cy="144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619280" y="3357720"/>
            <a:ext cx="1152360" cy="144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Line 8"/>
          <p:cNvSpPr/>
          <p:nvPr/>
        </p:nvSpPr>
        <p:spPr>
          <a:xfrm>
            <a:off x="1619280" y="3716280"/>
            <a:ext cx="1152360" cy="180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435640" y="2276640"/>
            <a:ext cx="1440" cy="72072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Line 10"/>
          <p:cNvSpPr/>
          <p:nvPr/>
        </p:nvSpPr>
        <p:spPr>
          <a:xfrm flipH="1">
            <a:off x="5424480" y="3284640"/>
            <a:ext cx="23760" cy="720720"/>
          </a:xfrm>
          <a:prstGeom prst="line">
            <a:avLst/>
          </a:prstGeom>
          <a:ln w="136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" name="Picture 18" descr="C:\Users\Гульнара Музиповна\Desktop\коррупция рисунки\емеля1.jpg"/>
          <p:cNvPicPr/>
          <p:nvPr/>
        </p:nvPicPr>
        <p:blipFill>
          <a:blip r:embed="rId1"/>
          <a:stretch/>
        </p:blipFill>
        <p:spPr>
          <a:xfrm>
            <a:off x="1211400" y="728640"/>
            <a:ext cx="6960960" cy="5221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0:17:09Z</dcterms:created>
  <dc:creator>ermolina.ib</dc:creator>
  <dc:description/>
  <dc:language>en-US</dc:language>
  <cp:lastModifiedBy>Гульнара Музиповна</cp:lastModifiedBy>
  <dcterms:modified xsi:type="dcterms:W3CDTF">2013-11-24T08:01:01Z</dcterms:modified>
  <cp:revision>82</cp:revision>
  <dc:subject/>
  <dc:title>Презентация PowerPoint</dc:title>
</cp:coreProperties>
</file>